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0CE-7DD2-44E0-AEDE-40D35B11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1CE-D0ED-4F48-BC32-1D5C1D76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060-740A-4347-8CCC-06CB0962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418-BED0-486D-8581-46F466A6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601-8818-4709-BF59-2A7E6F48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79E-0149-4BF8-B0BD-9C70AF97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794-087F-4EA2-8890-0AD937C4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463-8F30-4E80-886B-A7AC99DA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DF9-AB8D-4B5E-A958-8A864209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8AC-28CB-4E63-984B-FC85F737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EF3-54A7-4861-9A3E-147C5A67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400-B9C5-462E-B6A7-D7B54903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11B1-13A5-4C2A-9609-067B5C8A4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-3ZNnsC4q4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Showcard Gothic"/>
              </a:rPr>
              <a:t>Kolonen b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000" y="1557360"/>
            <a:ext cx="4824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Kolon Genovan 1541an jaio zen ETA 1506an hil 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1080" y="1197000"/>
            <a:ext cx="3238560" cy="303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365720"/>
            <a:ext cx="9144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txikitan hasi zen nabigazioan ibiltzeko gogOArekin eta oso gazte aritu zen itsasmutil lane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 </a:t>
            </a: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geografia ikasi zuen Pis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Showcard Gothic"/>
              </a:rPr>
              <a:t>Kolonen Bida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6-3ZNnsC4q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3141720"/>
            <a:ext cx="453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Showcard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Showcard Gothic"/>
              </a:rPr>
              <a:t>0:00 – 0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Showcard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Showcard Gothic"/>
              </a:rPr>
              <a:t>0:29 – 0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Showcard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Showcard Gothic"/>
              </a:rPr>
              <a:t>0:57 - 1: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Showcard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Showcard Gothic"/>
              </a:rPr>
              <a:t>1:31 – 1: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26028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Showcard Gothic"/>
              </a:rPr>
              <a:t>Asko izan ziren, Kristobal Kolonek eginiko bidaiak. Apunteak eta idatzizko notak egiten jaioa zen eta, honela, berak eginiko hainbat bidaia kontatzen di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44000" y="4365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5472000" cy="4322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2000" y="2637000"/>
            <a:ext cx="3132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Showcard Gothic"/>
              </a:rPr>
              <a:t>1480an Felipa Muñiz de Perestrellorekin ezkondu zen Portugalen; jatorri nobleko dama zen eta Kolon bera hala izango 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532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garai hartan zeuden mapa guztiak irakurri zituen. Indiara iristeko irrikaz zegoen, paraje haietan aberastasun handia zegoelak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Urrian San Salvador uhartera iritsi zen lehenengo aldiz. berak jakin gabe, Mundu Berria aurkitu baitzuen: Ameri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619520"/>
            <a:ext cx="4681440" cy="223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35640" y="4027320"/>
            <a:ext cx="28083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05:02Z</dcterms:created>
  <dc:creator>ik015111zz</dc:creator>
  <dc:description/>
  <dc:language>en-US</dc:language>
  <cp:lastModifiedBy>Ik015111zz</cp:lastModifiedBy>
  <dcterms:modified xsi:type="dcterms:W3CDTF">2012-05-17T12:55:28Z</dcterms:modified>
  <cp:revision>12</cp:revision>
  <dc:subject/>
  <dc:title>Kolonen biografia</dc:title>
</cp:coreProperties>
</file>